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169-0B0C-4850-AB5D-FFFEA9D8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0A3-CF58-4854-9529-1D10340E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B4E-45E0-46CB-822F-0E9DD665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3E7-2D3C-4CEC-A987-C70C27BA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11A-2FC6-48C4-A1FA-797AC6DB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7068-5172-4362-980C-64CD84B7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5E5B-6C85-4AB1-95D1-4D5EA32B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947-BF08-45C5-B939-07EC342A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10E-AF47-4A9B-B754-A780F4E2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62B-28E8-42ED-B88F-22E72AE5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1A7-B63C-4E96-AEC0-AABF937B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24F-B5D6-4010-9C40-35F29F85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82AB-46F3-4F5B-9B78-C9E01BF3C5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 u="sng">
                <a:solidFill>
                  <a:srgbClr val="cc0099"/>
                </a:solidFill>
                <a:uFillTx/>
                <a:latin typeface="Comic Sans MS"/>
              </a:rPr>
              <a:t>Cinq bisou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981080" y="19051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657600" y="19810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410080" y="19810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162920" y="1981080"/>
            <a:ext cx="1530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Un bisou pour mon lap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510000" cy="523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38080" y="1447920"/>
            <a:ext cx="153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Deux bisous pour mon pouss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81280" y="2133720"/>
            <a:ext cx="4672080" cy="3751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38080" y="14479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1905120" y="2057400"/>
            <a:ext cx="153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Trois bisous pour mon poula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4672080" cy="395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12952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19320" y="17524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09680" y="2057400"/>
            <a:ext cx="153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Quatre bisous pour mon chie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71920" y="1981080"/>
            <a:ext cx="4672080" cy="3959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990720" y="160020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2133720" y="19051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352680" y="2362320"/>
            <a:ext cx="153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Cinq bisous pour mon dauph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37320" y="1905120"/>
            <a:ext cx="3406680" cy="412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38080" y="14479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15238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828800" y="17524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971800" y="17524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4114800" y="1905120"/>
            <a:ext cx="153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Des bisous, tout plein, tout ple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048120" y="8380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886200" y="23623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572000" y="10666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562720" y="19810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6248520" y="12193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7238880" y="1523880"/>
            <a:ext cx="1530360" cy="4496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838080" y="14479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0"/>
          <a:stretch/>
        </p:blipFill>
        <p:spPr>
          <a:xfrm>
            <a:off x="0" y="2362320"/>
            <a:ext cx="1530360" cy="4495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1"/>
          <a:stretch/>
        </p:blipFill>
        <p:spPr>
          <a:xfrm>
            <a:off x="1676520" y="1523880"/>
            <a:ext cx="1530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09480"/>
            <a:ext cx="914400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Un bisou pour mon lap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Deux bisous pour mon pouss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Trois bisous pour mon poula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Quatre bisous pour mon chie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Cinq bisous pour mon dauphi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99"/>
                </a:solidFill>
                <a:latin typeface="Comic Sans MS"/>
              </a:rPr>
              <a:t>Des bisous, tout plein, tout ple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13:58:17Z</dcterms:created>
  <dc:creator>florence barats</dc:creator>
  <dc:description/>
  <dc:language>en-US</dc:language>
  <cp:lastModifiedBy>Teacher</cp:lastModifiedBy>
  <dcterms:modified xsi:type="dcterms:W3CDTF">2006-03-31T21:12:59Z</dcterms:modified>
  <cp:revision>3</cp:revision>
  <dc:subject/>
  <dc:title>Cinq bisous</dc:title>
</cp:coreProperties>
</file>